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D4B2-5F8F-4815-8D7B-9472F0023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5922-E23E-4925-9474-2AEBF72E2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C6DD-E5ED-480F-9728-7A172A640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BF3E-0CEC-4092-B7F8-B4D8C1683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7CB0-4A9E-4542-B05C-7B45CCED8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F51D-BD14-4512-9B91-BD2120F66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47A2-2BCF-4C78-A043-EFC4479B4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F34F-A0B9-4D7B-A870-C064A656D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8455-0B26-4B54-91EC-1665D8483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49EA-18F3-4D96-A2DE-A33C790EC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F8CF-66FF-4592-AC21-C7488D037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6693-98EB-4291-9EF5-D2A266374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66C56-5E33-4864-94ED-5A01BC9760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69696"/>
                </a:solidFill>
                <a:latin typeface="Arial"/>
              </a:rPr>
              <a:t>Me llamo __________ Clase 6NH(601) La fecha es el 17 de diciembre del 20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280" y="182880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0000"/>
                </a:solidFill>
                <a:latin typeface="Arial"/>
              </a:rPr>
              <a:t>Propósito # 21:</a:t>
            </a:r>
            <a:r>
              <a:rPr b="0" lang="es-ES_tradnl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uántos cuartos tiene tu cas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pia y respon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Tienes una casa o un apartamen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uántos cuartos tiene en tu cas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uáles son los cuartos de tu cas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uál es tu cuarto favorito? ¿Por qué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6868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Repaso del Vocabulario de la comi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343400" y="2514600"/>
            <a:ext cx="2695680" cy="20559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5867280" y="988920"/>
            <a:ext cx="27432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5050"/>
                </a:solidFill>
                <a:latin typeface="Arial"/>
              </a:rPr>
              <a:t>El desayu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5638680" y="2285640"/>
            <a:ext cx="0" cy="762120"/>
          </a:xfrm>
          <a:prstGeom prst="line">
            <a:avLst/>
          </a:prstGeom>
          <a:ln w="38160">
            <a:solidFill>
              <a:srgbClr val="fffff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952880" y="1752480"/>
            <a:ext cx="144792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7"/>
                </a:solidFill>
                <a:latin typeface="Arial"/>
              </a:rPr>
              <a:t>hue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6553080" y="2819520"/>
            <a:ext cx="685800" cy="4572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95880" y="3657600"/>
            <a:ext cx="990720" cy="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4191120" y="3962520"/>
            <a:ext cx="914400" cy="0"/>
          </a:xfrm>
          <a:prstGeom prst="line">
            <a:avLst/>
          </a:prstGeom>
          <a:ln w="381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7086600" y="2362320"/>
            <a:ext cx="175248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marL="188640" indent="-188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P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(tostad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7010280" y="3427560"/>
            <a:ext cx="213372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salchich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124080" y="3657600"/>
            <a:ext cx="144792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toci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80880" y="2895480"/>
            <a:ext cx="897120" cy="12956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752480" y="2562120"/>
            <a:ext cx="1135080" cy="17049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380880" y="5181480"/>
            <a:ext cx="1143000" cy="8575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2133720" y="5029200"/>
            <a:ext cx="1247760" cy="1295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3886200" y="4572000"/>
            <a:ext cx="1373040" cy="16574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5791320" y="5181480"/>
            <a:ext cx="1295280" cy="1143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 flipV="1">
            <a:off x="6477120" y="4952880"/>
            <a:ext cx="228600" cy="45720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715000" y="4570560"/>
            <a:ext cx="236232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Arial"/>
              </a:rPr>
              <a:t>mantequi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8"/>
          <a:stretch/>
        </p:blipFill>
        <p:spPr>
          <a:xfrm>
            <a:off x="7620120" y="4648320"/>
            <a:ext cx="992160" cy="16383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5791320" y="6323040"/>
            <a:ext cx="129528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anqu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7543800" y="6246720"/>
            <a:ext cx="11430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6600"/>
                </a:solidFill>
                <a:latin typeface="Arial"/>
              </a:rPr>
              <a:t>sir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191120" y="6248520"/>
            <a:ext cx="129528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v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209680" y="6246720"/>
            <a:ext cx="121932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er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33520" y="6019920"/>
            <a:ext cx="60948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905120" y="4343400"/>
            <a:ext cx="9144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af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0" y="4191120"/>
            <a:ext cx="1981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Jug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(de naranj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9"/>
          <a:stretch/>
        </p:blipFill>
        <p:spPr>
          <a:xfrm>
            <a:off x="0" y="855720"/>
            <a:ext cx="1905120" cy="13539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1066680" y="2133720"/>
            <a:ext cx="121932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ques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0"/>
          <a:stretch/>
        </p:blipFill>
        <p:spPr>
          <a:xfrm>
            <a:off x="2057400" y="1143000"/>
            <a:ext cx="1447920" cy="10843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3276720" y="2057400"/>
            <a:ext cx="121896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jam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Repaso de vocabul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960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El almuerz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1523880" cy="13208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410000" y="1676520"/>
            <a:ext cx="1457280" cy="14572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2630520" y="1600200"/>
            <a:ext cx="1103400" cy="13716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457200" y="4048200"/>
            <a:ext cx="1676520" cy="15145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2362320" y="3886200"/>
            <a:ext cx="2286000" cy="19810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6"/>
          <a:stretch/>
        </p:blipFill>
        <p:spPr>
          <a:xfrm>
            <a:off x="7238880" y="3124080"/>
            <a:ext cx="1581120" cy="15811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7"/>
          <a:stretch/>
        </p:blipFill>
        <p:spPr>
          <a:xfrm>
            <a:off x="6324480" y="4800600"/>
            <a:ext cx="895320" cy="1600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8"/>
          <a:stretch/>
        </p:blipFill>
        <p:spPr>
          <a:xfrm>
            <a:off x="5900760" y="990720"/>
            <a:ext cx="1719360" cy="12319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9"/>
          <a:stretch/>
        </p:blipFill>
        <p:spPr>
          <a:xfrm>
            <a:off x="5181480" y="3733920"/>
            <a:ext cx="900360" cy="14191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152280" y="3048120"/>
            <a:ext cx="236232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Hamburgu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666880" y="2971800"/>
            <a:ext cx="121932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ap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ri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0" y="3122640"/>
            <a:ext cx="121932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iz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7543800" y="1598760"/>
            <a:ext cx="167652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ándw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934320" y="2133720"/>
            <a:ext cx="220968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mpared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172200" y="2513160"/>
            <a:ext cx="190512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ocadi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924680" y="990720"/>
            <a:ext cx="121932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o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5638680"/>
            <a:ext cx="152388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nsal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971800" y="5865840"/>
            <a:ext cx="106668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o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181480" y="5105520"/>
            <a:ext cx="106704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ec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324480" y="6399360"/>
            <a:ext cx="121932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g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7315200" y="4646520"/>
            <a:ext cx="167652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Gaseo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7391520" y="5103720"/>
            <a:ext cx="121896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7315200" y="5484960"/>
            <a:ext cx="175248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fresc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05840"/>
            <a:ext cx="822960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Repaso de vocabul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3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La c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2280" y="1752480"/>
            <a:ext cx="1857600" cy="15336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362320" y="1600200"/>
            <a:ext cx="1549440" cy="17240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4191120" y="1676520"/>
            <a:ext cx="2562120" cy="17809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398520" y="4419720"/>
            <a:ext cx="1506600" cy="16761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2209680" y="3981600"/>
            <a:ext cx="1371600" cy="10270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6"/>
          <a:stretch/>
        </p:blipFill>
        <p:spPr>
          <a:xfrm>
            <a:off x="4114800" y="4191120"/>
            <a:ext cx="1482840" cy="16002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457200" y="3274920"/>
            <a:ext cx="99072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ol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362320" y="3427560"/>
            <a:ext cx="243828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istec/ bift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257800" y="3427560"/>
            <a:ext cx="1523880" cy="61092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es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086600" y="3198960"/>
            <a:ext cx="190512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amaró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7"/>
          <a:stretch/>
        </p:blipFill>
        <p:spPr>
          <a:xfrm>
            <a:off x="7086600" y="1447920"/>
            <a:ext cx="1905120" cy="17431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228600" y="6094440"/>
            <a:ext cx="175248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hulet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362320" y="5865840"/>
            <a:ext cx="190476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Vegeta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419720" y="5867280"/>
            <a:ext cx="13716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ide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8"/>
          <a:stretch/>
        </p:blipFill>
        <p:spPr>
          <a:xfrm>
            <a:off x="5715000" y="40672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9"/>
          <a:stretch/>
        </p:blipFill>
        <p:spPr>
          <a:xfrm>
            <a:off x="7315200" y="4280040"/>
            <a:ext cx="1828800" cy="13064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5867280" y="5713560"/>
            <a:ext cx="137160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rro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543800" y="5560920"/>
            <a:ext cx="13716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rij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7162920" y="6018120"/>
            <a:ext cx="198108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Habichue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0"/>
          <a:stretch/>
        </p:blipFill>
        <p:spPr>
          <a:xfrm>
            <a:off x="2743200" y="4986360"/>
            <a:ext cx="1295280" cy="9572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2362320" y="6246720"/>
            <a:ext cx="190476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egumbr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5486400" y="1905120"/>
            <a:ext cx="1752480" cy="304560"/>
          </a:xfrm>
          <a:prstGeom prst="line">
            <a:avLst/>
          </a:prstGeom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6248160" y="1523880"/>
            <a:ext cx="75960" cy="53352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029200" y="1143000"/>
            <a:ext cx="220968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cccc"/>
                </a:solidFill>
                <a:latin typeface="Arial"/>
              </a:rPr>
              <a:t>Los maris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990720" y="4114800"/>
            <a:ext cx="304560" cy="457200"/>
          </a:xfrm>
          <a:prstGeom prst="line">
            <a:avLst/>
          </a:prstGeom>
          <a:ln w="38160">
            <a:solidFill>
              <a:srgbClr val="fffff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47920" y="3352680"/>
            <a:ext cx="152280" cy="381240"/>
          </a:xfrm>
          <a:prstGeom prst="line">
            <a:avLst/>
          </a:prstGeom>
          <a:ln w="38160">
            <a:solidFill>
              <a:srgbClr val="fffff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980720" y="3429000"/>
            <a:ext cx="381240" cy="304920"/>
          </a:xfrm>
          <a:prstGeom prst="line">
            <a:avLst/>
          </a:prstGeom>
          <a:ln w="38160">
            <a:solidFill>
              <a:srgbClr val="fffff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09480" y="3732120"/>
            <a:ext cx="190512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7"/>
                </a:solidFill>
                <a:latin typeface="Arial"/>
              </a:rPr>
              <a:t>Las car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Tarea # 2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IA y complet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jercicio 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. R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20:25:46Z</dcterms:created>
  <dc:creator>Helen Zumaeta</dc:creator>
  <dc:description/>
  <dc:language>en-US</dc:language>
  <cp:lastModifiedBy>Helen Zumaeta</cp:lastModifiedBy>
  <dcterms:modified xsi:type="dcterms:W3CDTF">2012-12-17T17:46:39Z</dcterms:modified>
  <cp:revision>7</cp:revision>
  <dc:subject/>
  <dc:title>Me llamo __________ Clase 6NH(602) La fecha es el 5 de diciembre del 2012</dc:title>
</cp:coreProperties>
</file>